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0126-02E6-48B7-AAD0-E2BA68F86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83EE-DD6C-4773-AFD0-6772DDAB4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570C-1ADE-430E-911F-419790186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E3A1-D772-46E3-A603-D0837D863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1F50-1F8C-4244-A8BB-02148DF78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C330-F319-4754-B334-703084175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A6F1-CAD7-4870-BF66-F5737B87F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5DBF-F264-4B59-88AA-1FB10E374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D334-43F0-40AB-A7CF-FC17ACA4C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9999-CF04-4072-AEA7-EBBF2467B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915D-71EB-4DBF-A051-3000A0BC1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82F3-63C4-4500-8A62-F11C901DE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BC77D-0592-4D8D-8F7B-3DE5A56B077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Garnock Valley Ex Presidents"/>
          <p:cNvPicPr/>
          <p:nvPr/>
        </p:nvPicPr>
        <p:blipFill>
          <a:blip r:embed="rId1"/>
          <a:stretch/>
        </p:blipFill>
        <p:spPr>
          <a:xfrm>
            <a:off x="452520" y="285840"/>
            <a:ext cx="1206360" cy="11937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Tam O'Shanter Club"/>
          <p:cNvPicPr/>
          <p:nvPr/>
        </p:nvPicPr>
        <p:blipFill>
          <a:blip r:embed="rId2"/>
          <a:stretch/>
        </p:blipFill>
        <p:spPr>
          <a:xfrm>
            <a:off x="2238480" y="285840"/>
            <a:ext cx="987480" cy="1266840"/>
          </a:xfrm>
          <a:prstGeom prst="rect">
            <a:avLst/>
          </a:prstGeom>
          <a:ln w="0">
            <a:noFill/>
          </a:ln>
        </p:spPr>
      </p:pic>
      <p:sp>
        <p:nvSpPr>
          <p:cNvPr id="43" name="Text Box 8"/>
          <p:cNvSpPr/>
          <p:nvPr/>
        </p:nvSpPr>
        <p:spPr>
          <a:xfrm>
            <a:off x="0" y="148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ARNOCK  VALLEY  EX  PRESIDENTS     TAM  O’SHANTER  TOUR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4305240" y="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TRICT 19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6T18:56:55Z</dcterms:created>
  <dc:creator>HP authorized customer</dc:creator>
  <dc:description/>
  <dc:language>en-US</dc:language>
  <cp:lastModifiedBy>John</cp:lastModifiedBy>
  <dcterms:modified xsi:type="dcterms:W3CDTF">2010-02-14T14:26:20Z</dcterms:modified>
  <cp:revision>7</cp:revision>
  <dc:subject/>
  <dc:title>Slide 1</dc:title>
</cp:coreProperties>
</file>